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AD45-E99B-42F8-B1CB-E31F68B93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2738-8943-414F-B6D1-52447A8BF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BD97-88F2-4568-962F-B3C9FBD80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AFEE-4BC1-4262-82E7-7AB811410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6853-5AAE-4E90-8029-171ACDA29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DC94-A932-48BF-B4F0-3D01D2F75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8D88-0D8F-40EF-802A-948FB7AA0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CAAF-50C6-4EDE-8D02-8F518E280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83BA-C2D3-4DC1-B8A4-F062C92CD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4B6D-E7BC-404B-902A-6B5CC0EE6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AA0E-7DB0-477D-9CF0-091030B6D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1230-17E3-4F2D-9E7D-5CFABCFED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697D7-12FC-41B1-84AF-4754F47347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eb.mit.edu/invent/iow/hulahoop.html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84080" y="297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791320" y="5029200"/>
            <a:ext cx="27432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Handwriting"/>
              </a:rPr>
              <a:t>Melissa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Handwriting"/>
              </a:rPr>
              <a:t>5/11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Handwriting"/>
              </a:rPr>
              <a:t>11/11Computer #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Handwriting"/>
              </a:rPr>
              <a:t>Period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09480" y="2666880"/>
            <a:ext cx="4572000" cy="1371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Hula Hoop</a:t>
            </a:r>
            <a:endParaRPr b="0" lang="en-US" sz="66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733920" y="0"/>
            <a:ext cx="2871720" cy="3200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2971800" y="6095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867280" y="373392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Handwriting"/>
              </a:rPr>
              <a:t>Invented: by Rich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Knerr and Spud Me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245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Hoop girl"/>
          <p:cNvPicPr/>
          <p:nvPr/>
        </p:nvPicPr>
        <p:blipFill>
          <a:blip r:embed="rId1"/>
          <a:stretch/>
        </p:blipFill>
        <p:spPr>
          <a:xfrm>
            <a:off x="4048200" y="0"/>
            <a:ext cx="50958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2743200"/>
            <a:ext cx="3733920" cy="15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Handwriting"/>
              </a:rPr>
              <a:t>Lemelson MIT Progra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Lucida Handwriting"/>
              </a:rPr>
              <a:t>Richard Knerr</a:t>
            </a:r>
            <a:r>
              <a:rPr b="0" lang="en-US" sz="1800" spc="-1" strike="noStrike">
                <a:solidFill>
                  <a:srgbClr val="000000"/>
                </a:solidFill>
                <a:latin typeface="Lucida Handwriting"/>
              </a:rPr>
              <a:t>, 5/16/11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Lucida Handwriting"/>
                <a:hlinkClick r:id="rId2"/>
              </a:rPr>
              <a:t>http://web.mit.edu/invent/iow/hulahoop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Handwriting"/>
              </a:rPr>
              <a:t>Hula Ho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Handwri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Handwriting"/>
              </a:rPr>
              <a:t>For adults, hoops twirling has at times b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Handwriting"/>
              </a:rPr>
              <a:t>Reccomended as a weight loss meas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Handwri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Handwriting"/>
              </a:rPr>
              <a:t>The hula hoop whose name came from the Hawaiian dace it’s users seemed to imitate was market nationw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Handwri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Handwriting"/>
              </a:rPr>
              <a:t>Children around the world  with hoops have been throwing and twirling on their waist and lim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Handwri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Handwriting"/>
              </a:rPr>
              <a:t>These hoops were once made of vines or other plants, wood, or me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Handwri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Handwriting"/>
              </a:rPr>
              <a:t>Wham-O sold 25 million hula hoops in 2 months.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Handwriting"/>
              </a:rPr>
              <a:t>Richard Knerr &amp; Spud Mel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Handwri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Handwriting"/>
              </a:rPr>
              <a:t>Children around the world have always played with hoo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Handwri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Handwriting"/>
              </a:rPr>
              <a:t>Richard Knerr &amp; Arthur “spud” Melin were founders of the wham-O comp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Handwri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Handwriting"/>
              </a:rPr>
              <a:t>Australian children twirled bamboo hoops around their waist in gym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Handwri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Handwriting"/>
              </a:rPr>
              <a:t>Knerr &amp; Melin saw how popular such a toy can b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Handwri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Handwriting"/>
              </a:rPr>
              <a:t>Richard Knerr was ready with another bombshell that year he had discovered “Frisbee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1T17:56:40Z</dcterms:created>
  <dc:creator>install</dc:creator>
  <dc:description/>
  <dc:language>en-US</dc:language>
  <cp:lastModifiedBy>install</cp:lastModifiedBy>
  <dcterms:modified xsi:type="dcterms:W3CDTF">2011-06-01T17:37:57Z</dcterms:modified>
  <cp:revision>6</cp:revision>
  <dc:subject/>
  <dc:title>Slide 1</dc:title>
</cp:coreProperties>
</file>